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334A-CB3D-417D-B0A2-F0003601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89B3-6B8D-4D26-A5CF-8ECF3752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8994-4895-481F-B656-3F4DD963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1E38-B089-4E28-A322-56281A47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BD9A-1374-4FC2-988E-F00E407B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5BBC-4640-456E-8DDE-C218A7EA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0A9-F486-4ECD-93BD-028F463F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D4A2-0DB7-4679-943A-731FDA99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1ABE-C19B-4F96-ABC1-9D3BD662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BCB8-729D-45A7-8B97-86B2ADBC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E411-606C-45C4-BAD0-4F6E7496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559A-EF72-40E7-8060-D2CB85FC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A838-F326-4923-B7B5-22E87D4A0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 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     Clase 8 IM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22 de noviembre del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6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tomamos la Prueba 3/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pasar el Propósito #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488280"/>
        </p:xfrm>
        <a:graphic>
          <a:graphicData uri="http://schemas.openxmlformats.org/drawingml/2006/table">
            <a:tbl>
              <a:tblPr/>
              <a:tblGrid>
                <a:gridCol w="2133720"/>
                <a:gridCol w="2438280"/>
                <a:gridCol w="2286000"/>
                <a:gridCol w="22860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art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mbar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a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n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clam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acer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pia y completa con la forma correcta del presente progres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alumnos ______________ a la profesora. (escuch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u ____________ a conjugar. (apren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sotros ____________ español. (estudi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éctor ______________ a Madrid. (part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___________ para el equipaje. (reclam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pasajeros _____________ el avión. (embarc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asistente _____________ al pasajero. (ayud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_____________ ahora? (hac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_____________ un equipaje de mano pequeño. (tra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 familia __________________ al aeropuerto para ir a casa. (ven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22:15:50Z</dcterms:created>
  <dc:creator>Helen Zumaeta</dc:creator>
  <dc:description/>
  <dc:language>en-US</dc:language>
  <cp:lastModifiedBy>Helen Zumaeta</cp:lastModifiedBy>
  <dcterms:modified xsi:type="dcterms:W3CDTF">2011-11-22T15:12:51Z</dcterms:modified>
  <cp:revision>4</cp:revision>
  <dc:subject/>
  <dc:title>Me llamo _______        Clase 8 IM La fecha es el 22 de noviembre del 2011</dc:title>
</cp:coreProperties>
</file>